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D094-F102-448B-90C1-DF6C35D2C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85AE-F633-4595-8686-429BF298B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DFC2-616E-45AD-B63D-E0563D7D5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E1AF-631E-4072-B3FC-CA4B91F3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0CDE-66BD-4051-9D7B-9664CD77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A72F-CF2A-40B4-BCAC-842E08001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15A2-8D3A-42C9-94B4-D1CA36006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FB34-43DF-4672-954D-C1E2EDB35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5820-7A74-4FAF-AE0D-CC399A94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2248-A810-4F44-84FC-C165EBCC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9DD5-0343-4E57-9FE1-EF88AB04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0E5D-EAE9-4CAD-8AD8-C7961831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00D5-0367-4842-8891-E50BAA94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61CE-5772-4635-B61B-4BBE0078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A61D-E4E0-42A0-A530-99F50B4D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46F5-00BE-4CAC-9D9E-907254FE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B600-ADB2-4C31-B3BE-C521ABC8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5E6A-38A6-4E43-B22A-26791598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6A35-CF7B-4BBA-84AB-E48C58D87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E761-BCA1-463B-982A-7B3DFEEFF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09EB-6472-4297-B205-4AB430F2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4D92-C5A3-44ED-9DCA-F14A1340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4FA4-AB76-40CF-BF04-E080BC73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9D1F-3B9A-4674-8BBB-F61A9DDF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6974-E1F9-4E0B-BEBC-62FAF558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58A9-A3D0-4F3A-9C9C-61BB91B9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B282-F22E-4CD2-8929-0E9A42EC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E14E-B0B4-4B02-932F-FD75765BB61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B11E-835C-468A-B199-57C19EF1B50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2860200" y="5004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medicinski_120"/>
          <p:cNvPicPr/>
          <p:nvPr/>
        </p:nvPicPr>
        <p:blipFill>
          <a:blip r:embed="rId1"/>
          <a:stretch/>
        </p:blipFill>
        <p:spPr>
          <a:xfrm>
            <a:off x="3857760" y="1357200"/>
            <a:ext cx="1143000" cy="13334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7"/>
          <p:cNvSpPr/>
          <p:nvPr/>
        </p:nvSpPr>
        <p:spPr>
          <a:xfrm>
            <a:off x="250920" y="3002760"/>
            <a:ext cx="8705880" cy="39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ff00"/>
                </a:solidFill>
                <a:latin typeface="Arial"/>
              </a:rPr>
              <a:t>Доц др Ана Вуји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547640" y="2852640"/>
            <a:ext cx="6748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НЕФРОТСКИ СИНДРОМ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АКУТН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ГЛОМЕРУЛОНЕФРИТ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200" spc="-1" strike="noStrike">
                <a:solidFill>
                  <a:srgbClr val="ffff00"/>
                </a:solidFill>
                <a:latin typeface="Garamond"/>
              </a:rPr>
              <a:t>Патофизиологиј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К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линичке манифестације  су директно или индиректно резултат гломеруларног инфламаторног одговора чији степен дефинише тежину симптома и знакова бол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Запаљење гломерула (ћелијска пролиферација и едем) смањује гломеруларну филтрацију; редукција филтрације и нормалне тубуларне функције води до повећане реапсорпције воде и соли, што резултира у олигурији и појави ед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Повећање волумена екстрацелуларне течности доводи до повећања системског притиска, што може бити једно од објашњења највероватније мултифакторијално узроковане хипертен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medicinski_120"/>
          <p:cNvPicPr/>
          <p:nvPr/>
        </p:nvPicPr>
        <p:blipFill>
          <a:blip r:embed="rId1"/>
          <a:stretch/>
        </p:blipFill>
        <p:spPr>
          <a:xfrm>
            <a:off x="7740720" y="260280"/>
            <a:ext cx="863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200" spc="-1" strike="noStrike">
                <a:solidFill>
                  <a:srgbClr val="ffff00"/>
                </a:solidFill>
                <a:latin typeface="Garamond"/>
              </a:rPr>
              <a:t>Клиничка сли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Латентни период од почетка стрептококне инфекције до развоја клиничке слике АПСГН се креће од 7 до 21 д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Макрохематурија и/или едем представљају најчешћу клиничку манифестацију болести; настају нагло и могу бити удружени са различитим степеном слабости, летаргијом, анорексијом, главобољом и абдоминалним бол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Едем се налази у приближно 85% пацијената; обично настаје изненада и прво захвата периорбитални преде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Макрохематурија (урин се описује као чађав, боје кока-коле или рђе) је почетни симптом код 30-50% деце хоспитализоване због АПСГ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medicinski_120"/>
          <p:cNvPicPr/>
          <p:nvPr/>
        </p:nvPicPr>
        <p:blipFill>
          <a:blip r:embed="rId1"/>
          <a:stretch/>
        </p:blipFill>
        <p:spPr>
          <a:xfrm>
            <a:off x="7740720" y="260280"/>
            <a:ext cx="863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200" spc="-1" strike="noStrike">
                <a:solidFill>
                  <a:srgbClr val="ffff00"/>
                </a:solidFill>
                <a:latin typeface="Garamond"/>
              </a:rPr>
              <a:t>Клиничка сли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Хипертен</a:t>
            </a:r>
            <a:r>
              <a:rPr b="0" lang="sl-SI" sz="2000" spc="-1" strike="noStrike">
                <a:solidFill>
                  <a:srgbClr val="ffff00"/>
                </a:solidFill>
                <a:latin typeface="Arial"/>
              </a:rPr>
              <a:t>зија је трећи кардинални знак АПСГН и евидентирана је код 50-90% деце хоспитализоване због ове бол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Arial"/>
              </a:rPr>
              <a:t>Хипертензивна енцефалопатија је виђена у приближно 5% хоспитализоване деце и представља најозбиљнију рану комликацију ове бол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Arial"/>
              </a:rPr>
              <a:t>Ови пацијенти имају тешку хипертензију (200/120mm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Hg</a:t>
            </a:r>
            <a:r>
              <a:rPr b="0" lang="sl-SI" sz="2000" spc="-1" strike="noStrike">
                <a:solidFill>
                  <a:srgbClr val="ffff00"/>
                </a:solidFill>
                <a:latin typeface="Arial"/>
              </a:rPr>
              <a:t>) удружену са знацима дисфункције ЦНС-а (главобоља, повраћање, сензорна депресија, конфузија, визуелни поремећаји, афазија, губитак памћења,конвулзије, ком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Arial"/>
              </a:rPr>
              <a:t>Хипертензивна енцефалопатија се виђе и код пацијената без или са минималним едемом и минималним уринарним абнормалност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medicinski_120"/>
          <p:cNvPicPr/>
          <p:nvPr/>
        </p:nvPicPr>
        <p:blipFill>
          <a:blip r:embed="rId1"/>
          <a:stretch/>
        </p:blipFill>
        <p:spPr>
          <a:xfrm>
            <a:off x="7740720" y="260280"/>
            <a:ext cx="863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200" spc="-1" strike="noStrike">
                <a:solidFill>
                  <a:srgbClr val="ffff00"/>
                </a:solidFill>
                <a:latin typeface="Garamond"/>
              </a:rPr>
              <a:t>Клиничка сли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642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Циркулаторна конгестија је уочљива код већине хоспитализоване деце, али је одговорна само за врло ране симптоме: диспнеја, ортопнеја, кашаљ ; аускултацијом плућа чују се инспираторо-експираторни пуко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Понекад је једини знак циркулаторне конгестије увећана срчана сенка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а тзв телерадиографији, мада је ср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ана инсуфицијенција ретка појава код пацијената са иначе здравим кардиоваскуларним системом; срчана радња може бити тахикардична или брадикардич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Бледило се обично јавља на почетку болести и не може се потпуно објаснити анемиј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ffff00"/>
                </a:solidFill>
                <a:latin typeface="Garamond"/>
              </a:rPr>
              <a:t>Диференцијална дијагноз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инфективни гломерулнофрити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5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стрептококни и после др. бактеријских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5c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5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вирусних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5c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5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паразитарних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5c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А-удружени гломерулонефрити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a9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noch-Shonlein purpura (HSP) нефритi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a9ab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a9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 IgA нефритiсi  (Berg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a9ab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a9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нични Г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a9ab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ли (мање чес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39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нт 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39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39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јарни 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39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39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пидно прогресивни Г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396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39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 нефритi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39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00"/>
                </a:solidFill>
                <a:latin typeface="Garamond"/>
              </a:rPr>
              <a:t>Терапиј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Кадa се испоље симптоми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АПСГН ле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з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ија гломерула се ве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ћ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догoдила и процес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 излечeња је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по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чео. То значи да је прекасно за примену специфiчне терапије против узрочника нефритiса. Супротно oвоме одговарaјуће терапија која је потпорна и директно усмерeна на превeнцију комликација  може значaјно утицати на морбидитет и рани морталит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Хоспитализација је индикована код деце са значајном хипертензијом или комбинацијом олигурије, генерализованих едeма и повишенe концентрације серумског креатин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на ил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 калију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medicinski_120"/>
          <p:cNvPicPr/>
          <p:nvPr/>
        </p:nvPicPr>
        <p:blipFill>
          <a:blip r:embed="rId1"/>
          <a:stretch/>
        </p:blipFill>
        <p:spPr>
          <a:xfrm>
            <a:off x="7740720" y="260280"/>
            <a:ext cx="863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00"/>
                </a:solidFill>
                <a:latin typeface="Garamond"/>
              </a:rPr>
              <a:t>Терапија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Те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шка хипертензија удружена са знацима централне дисфункције захтева хитну примену медикамената као што су: labetalol (0,5-2mg/kg/h iv), diazoxid ил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 nitroprusid (0,5-2mcg/kg/min i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Те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шка хипертензија без eнцeфалопатијe сe лeчи нaјчeшћe пр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мeном вaзод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лaтaторa кao ш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т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o су hidralazin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ли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 nifedip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Б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л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aгa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л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умe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р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хип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рт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нзија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e захтева хитну примену терапијe којa подразумева мирoвање, рестrикцију уноса течности и ређe примeну претходно наведeних лекова (furosemid, hidralazin); ACE инхиб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тор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могу дoвест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дo х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перкалeм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јe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oб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чнo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н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су лeкoв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 п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рв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oг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р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д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а ko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д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АПСГ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medicinski_120"/>
          <p:cNvPicPr/>
          <p:nvPr/>
        </p:nvPicPr>
        <p:blipFill>
          <a:blip r:embed="rId1"/>
          <a:stretch/>
        </p:blipFill>
        <p:spPr>
          <a:xfrm>
            <a:off x="7740720" y="260280"/>
            <a:ext cx="863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00"/>
                </a:solidFill>
                <a:latin typeface="Garamond"/>
              </a:rPr>
              <a:t>Terapij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772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5600" indent="-5256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Едем и циркулаторна конгестија као последица олигурије захтевају рестрикцију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носа течности тако да се надокнађујu само тзв. “невидљив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губиц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5600" indent="-5256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Диурет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ц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п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р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мeњeн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per os скраћуј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д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жин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хо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п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тaл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зaцijе едeматознe deцe, a кod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т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eжe ko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гeс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т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ијe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e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д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ajу парентeрaл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о (furosemid 2mg/k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56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5600" indent="-5256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Стероидна терапијa јe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нд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ковa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a кo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д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пaц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je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т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a сa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т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eшk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м oбл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koм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р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пидн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o-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пр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oг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р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eс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в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ним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Г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5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25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medicinski_120"/>
          <p:cNvPicPr/>
          <p:nvPr/>
        </p:nvPicPr>
        <p:blipFill>
          <a:blip r:embed="rId1"/>
          <a:stretch/>
        </p:blipFill>
        <p:spPr>
          <a:xfrm>
            <a:off x="7740720" y="260280"/>
            <a:ext cx="863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00"/>
                </a:solidFill>
                <a:latin typeface="Garamond"/>
              </a:rPr>
              <a:t>Terapij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9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Пениц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лин се може применит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 да не би дошло до контактне инфекције са нефритогеним стрептокokом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м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адa у већин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 случајева ови контакти не довoде до АГН; ова терапија не утиче на ток болести, али може изменит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 имунолoшки одговo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Узимањем култура од најближ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х чланова порoдице могу се открит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 пацијенти са aсимптоматским обликом АПСГ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medicinski_120"/>
          <p:cNvPicPr/>
          <p:nvPr/>
        </p:nvPicPr>
        <p:blipFill>
          <a:blip r:embed="rId1"/>
          <a:stretch/>
        </p:blipFill>
        <p:spPr>
          <a:xfrm>
            <a:off x="7740720" y="260280"/>
            <a:ext cx="863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200" spc="-1" strike="noStrike">
                <a:solidFill>
                  <a:srgbClr val="ffff00"/>
                </a:solidFill>
                <a:latin typeface="Garamond"/>
              </a:rPr>
              <a:t>Прогноз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Коначни исход код осoба оболелих од АПСГН зависи у великој мери од тежине иниц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јалног оштећења гломерул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Само код неколицине хоспитализованих пацијената је иниц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јално оштећењe тако тешко да или перзистира бубрежна инсуфицијенција или прогредира у бубрежну инсуфицијенциј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Код већине оболелих долази до комплетне хистолошке регресије болести и коначан исход је доба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Секундарне епизоде АПСГН су ретка појава, мада се клиничке манифестације болести могу јавити после прва 3 месец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medicinski_120"/>
          <p:cNvPicPr/>
          <p:nvPr/>
        </p:nvPicPr>
        <p:blipFill>
          <a:blip r:embed="rId1"/>
          <a:stretch/>
        </p:blipFill>
        <p:spPr>
          <a:xfrm>
            <a:off x="7740720" y="260280"/>
            <a:ext cx="863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ffff00"/>
                </a:solidFill>
                <a:latin typeface="Garamond"/>
              </a:rPr>
              <a:t>Гломерулопатиј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00040" y="1428840"/>
          <a:ext cx="8286840" cy="4111560"/>
        </p:xfrm>
        <a:graphic>
          <a:graphicData uri="http://schemas.openxmlformats.org/drawingml/2006/table">
            <a:tbl>
              <a:tblPr/>
              <a:tblGrid>
                <a:gridCol w="4143240"/>
                <a:gridCol w="4143600"/>
              </a:tblGrid>
              <a:tr h="107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фритични синдр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5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фротски синдр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396"/>
                    </a:solidFill>
                  </a:tcPr>
                </a:tc>
              </a:tr>
              <a:tr h="12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рохематурија гломерулског порекла (цилндр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5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ивна протеинур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396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ена протеинуриј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5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опротеинем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396"/>
                    </a:solidFill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игурија ( снижена гломерулска филтрациј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5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ерлипидем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396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еми и Хипертенз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5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е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39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ffff00"/>
                </a:solidFill>
                <a:latin typeface="Garamond"/>
              </a:rPr>
              <a:t>Дефиниција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Идиопатски нефротски синдром (ИНС) је термин које се употребљава да означи заједно три групе болесника у зависности од типа хистолошких промена које доводе до ове гломерулопат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Хистолошки минималне промене у гломерул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Дифузна мезангијумска пролиферација (хиперцелуларнос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Фокална гломерулска склер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ffff00"/>
                </a:solidFill>
                <a:latin typeface="Garamond"/>
              </a:rPr>
              <a:t>Клиничка слика и лабораторија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Едеми (од капака до анасарк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Протеинурија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  <a:ea typeface="Arial"/>
              </a:rPr>
              <a:t>≥50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mg/kg/24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  <a:ea typeface="Arial"/>
              </a:rPr>
              <a:t>Хипоалбуминемија≤20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  <a:ea typeface="Arial"/>
              </a:rPr>
              <a:t>g/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  <a:ea typeface="Arial"/>
              </a:rPr>
              <a:t>Хиперлипидемија (повишени холестерол и триглицерид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ffff00"/>
                </a:solidFill>
                <a:latin typeface="Garamond"/>
              </a:rPr>
              <a:t>Терапија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Специфична: кортикостер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Прва фаза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(4 недеље): 60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mg/kg/24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Друга фаза (неколико недеља): 40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mg/kg/48h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са постепеним смањивањ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Терапија еде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ограничити унос течности уз неслану дије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диуретици (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Furosem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хумани албумини: 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1-2g/kg/24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200" spc="-1" strike="noStrike">
                <a:solidFill>
                  <a:srgbClr val="ffff00"/>
                </a:solidFill>
                <a:latin typeface="Garamond"/>
              </a:rPr>
              <a:t>Дефинициј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Акутни пост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ст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рептокokни гломерулоне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ф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ритiс (АПСГН)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ј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е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акутно, имунолoшким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м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еханизми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м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а иза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з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вано запaљењe бу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б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рега, које настаје, секундарно, као последица инфекције гуше ил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 коже нефритогеним типовима </a:t>
            </a:r>
            <a:r>
              <a:rPr b="0" lang="el-GR" sz="2200" spc="-1" strike="noStrike">
                <a:solidFill>
                  <a:srgbClr val="ffff00"/>
                </a:solidFill>
                <a:latin typeface="Arial"/>
              </a:rPr>
              <a:t>β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 хемолит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чког стреотoкоkа групе 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(АПСГН)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ј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е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нај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ће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несупуративно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 oбољењe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бубрега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у децe при чему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велики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број оболелих осoба има благи или асимптоматски облик болести ( однос броја асимптоматских </a:t>
            </a: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према броју симптоматских пацијенaтa вaрирa </a:t>
            </a: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од 2:1 дo  3:1)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medicinski_120"/>
          <p:cNvPicPr/>
          <p:nvPr/>
        </p:nvPicPr>
        <p:blipFill>
          <a:blip r:embed="rId1"/>
          <a:stretch/>
        </p:blipFill>
        <p:spPr>
          <a:xfrm>
            <a:off x="7740720" y="260280"/>
            <a:ext cx="863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200" spc="-1" strike="noStrike">
                <a:solidFill>
                  <a:srgbClr val="ffff00"/>
                </a:solidFill>
                <a:latin typeface="Garamond"/>
              </a:rPr>
              <a:t>Епидемиологија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Arial"/>
              </a:rPr>
              <a:t>АПСГН може бити епидемијски, али се чешће јавља спорадично и при томе има сезонски карак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Arial"/>
              </a:rPr>
              <a:t>Најчешћи серотипови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ffff00"/>
                </a:solidFill>
                <a:latin typeface="Arial"/>
              </a:rPr>
              <a:t>β</a:t>
            </a:r>
            <a:r>
              <a:rPr b="0" lang="sr-Latn-CS" sz="2000" spc="-1" strike="noStrike">
                <a:solidFill>
                  <a:srgbClr val="ffff00"/>
                </a:solidFill>
                <a:latin typeface="Arial"/>
              </a:rPr>
              <a:t> хемолитичког стреотокока групе А који изазивају нефритис су тип 12 када су у питању назофарингеалне инфекције и тип 49 у случају пиодерм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Arial"/>
              </a:rPr>
              <a:t>Код особа са ринофарингитом латентни период до појаве АПСГН изно</a:t>
            </a: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sl-SI" sz="2000" spc="-1" strike="noStrike">
                <a:solidFill>
                  <a:srgbClr val="ffff00"/>
                </a:solidFill>
                <a:latin typeface="Arial"/>
              </a:rPr>
              <a:t>и приближно 10 дана при чему је код више од 80% пацијената повишен титар антистрептолизина О у серу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Arial"/>
              </a:rPr>
              <a:t>Код особа са променама на кожи теже је утврдити латентни период, а пораст АСО титра је нађен у само 50% случаје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medicinski_120"/>
          <p:cNvPicPr/>
          <p:nvPr/>
        </p:nvPicPr>
        <p:blipFill>
          <a:blip r:embed="rId1"/>
          <a:stretch/>
        </p:blipFill>
        <p:spPr>
          <a:xfrm>
            <a:off x="7740720" y="260280"/>
            <a:ext cx="863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200" spc="-1" strike="noStrike">
                <a:solidFill>
                  <a:srgbClr val="ffff00"/>
                </a:solidFill>
                <a:latin typeface="Garamond"/>
              </a:rPr>
              <a:t>Статистички подац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9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Не постоји разлика међу расама у испољавању  АПСГН; ово важи за све етничке и културне груп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Болест је чешћа код особа мушког пола у свим регионима света и то тако да се однос мушког према женском полу креће од 1,7 до 2 : 1; разлог за ову предоминацију није позна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Arial"/>
              </a:rPr>
              <a:t>АПСГН је евидентиран код старца од 90 година и одојчета од годину дана, али је највећа учесталост обољевања код деце старости 4-12 година са пиком у узрасту 5-6 год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medicinski_120"/>
          <p:cNvPicPr/>
          <p:nvPr/>
        </p:nvPicPr>
        <p:blipFill>
          <a:blip r:embed="rId1"/>
          <a:stretch/>
        </p:blipFill>
        <p:spPr>
          <a:xfrm>
            <a:off x="7740720" y="260280"/>
            <a:ext cx="863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200" spc="-1" strike="noStrike">
                <a:solidFill>
                  <a:srgbClr val="ffff00"/>
                </a:solidFill>
                <a:latin typeface="Garamond"/>
              </a:rPr>
              <a:t>Етиологиј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08680" indent="-508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За доказивање АПСГН неопходно је да постоје имуни комплекси, састављени од специфичних антите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л</a:t>
            </a: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а усмерених против стрептококних антигена, који су локализовани на зиду гломеруларних капилара и који доводе до активације система комплемент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8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8680" indent="-508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Најмање за два антигена изолована из нефритогених типова стрептокока се верује да су у стању да иницирају имунолошки одговор. То с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8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sl-SI" sz="2400" spc="-1" strike="noStrike">
                <a:solidFill>
                  <a:srgbClr val="ffff00"/>
                </a:solidFill>
                <a:latin typeface="Arial"/>
              </a:rPr>
              <a:t>1. Зимоген-прекурсор егзотоxина Б (СПЕ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8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sl-SI" sz="2400" spc="-1" strike="noStrike">
                <a:solidFill>
                  <a:srgbClr val="ffff00"/>
                </a:solidFill>
                <a:latin typeface="Arial"/>
              </a:rPr>
              <a:t>2. Глицералдехид фосфат дехидрогеназа (ГАПД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86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086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medicinski_120"/>
          <p:cNvPicPr/>
          <p:nvPr/>
        </p:nvPicPr>
        <p:blipFill>
          <a:blip r:embed="rId1"/>
          <a:stretch/>
        </p:blipFill>
        <p:spPr>
          <a:xfrm>
            <a:off x="7740720" y="260280"/>
            <a:ext cx="863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8T22:08:22Z</dcterms:created>
  <dc:creator>DR DJOLE</dc:creator>
  <dc:description/>
  <dc:language>en-US</dc:language>
  <cp:lastModifiedBy>Ana i Tamara</cp:lastModifiedBy>
  <dcterms:modified xsi:type="dcterms:W3CDTF">2011-08-25T20:59:34Z</dcterms:modified>
  <cp:revision>218</cp:revision>
  <dc:subject/>
  <dc:title>Slide 1</dc:title>
</cp:coreProperties>
</file>