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9AE9-2BFD-4AD2-A7D5-199E3543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7D3-24A2-45FB-87EB-4BFEBF65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B27-E26F-40BB-90D3-7168424F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C8A-E8C7-4423-9462-1D86A436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20C2-FC9F-41E1-8BB4-C0D0C238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7BE2-F90F-4032-ABDA-B2BD488A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BFB0-0D9E-4CB4-AF3E-9BA1BB17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96E6-2EE1-4912-BD27-AE3EAD4D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C564-5CC5-4352-8758-503BED89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16CE-81AB-405E-9775-89B3A188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FA30-031D-4329-B95F-D68BFE74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2033-F54F-4825-98B7-B19331ED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B538-D8FD-4427-9744-A199F916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68A9-876D-456F-8891-BD8C11FC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99E0-3517-4972-9104-C4470D07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8FDF-5D6A-43D5-8241-06C36552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EFC3-56C2-411E-B6AB-CC73CD0E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FF67-F2B0-4447-8D76-95AF8DE0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1A52-F398-4CC6-B127-5574D4FD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76C5-53CB-4661-B323-353E4A19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F43-17B4-4CB3-ADF2-CEFAE252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E24-EE60-4E6B-B46C-2107147C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C5D-D5C5-425C-BF1A-9C71FE78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3644-E244-43DC-A74E-B981FD1E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BFC4-E0F8-4F25-92CE-B12A0F2A9B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20BE-A697-4B4F-AB46-4C37599070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ncbi.nlm.nih.gov/sites/entrez?Db=pubmed&amp;Cmd=Search&amp;Term=%22Sargent%20MA%22%5BAuthor%5D&amp;itool=EntrezSystem2.PEntrez.Pubmed.Pubmed_ResultsPanel.Pubmed_DiscoveryPanel.Pubmed_RVAbstractPlus" TargetMode="External"/><Relationship Id="rId2" Type="http://schemas.openxmlformats.org/officeDocument/2006/relationships/hyperlink" Target="javascript:AL_get(this,%20&apos;jour&apos;,%20&apos;Pediatr%20Radiol.&apos;);" TargetMode="External"/><Relationship Id="rId3" Type="http://schemas.openxmlformats.org/officeDocument/2006/relationships/hyperlink" Target="http://www.ncbi.nlm.nih.gov/sites/entrez" TargetMode="Externa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Инфекције уринарног тракта у деце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Проф. Др </a:t>
            </a:r>
            <a:r>
              <a:rPr b="0" lang="sr-RS" sz="3200" spc="-1" strike="noStrike">
                <a:solidFill>
                  <a:srgbClr val="ffff00"/>
                </a:solidFill>
                <a:latin typeface="Times New Roman"/>
              </a:rPr>
              <a:t>Ана Вуји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Етиолог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ИУТ су најчешће изазване бактеријама из цревне флоре изузимајући новорођенчад код којих чешће настају хематоген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Бактерије из цревне флоре доспевају асцедентним путем у УТ. У око 85 –90 % узрочник је Е. цоли. Протеус се релативно чешће налази код мушке деце, а Клебсиелла- Ентеробацтер код новорођенчад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У 5-7% ИУТ узрочници су грам-позитивни микроорганизми, ентерокок и стафилокок, укључујући и коагулаза негативни стафилокок код девојчица у пубертет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У хоспиталним условима, нарочито након уролошких интервенција, изолују се Псеудомонас и Клебсиел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ИУТ су по правилу проузроковане једним узрочник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Дијагноз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Анамне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Преглед дете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Биохемијско-лабораторијске анализ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Анамнез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00"/>
                </a:solidFill>
                <a:latin typeface="Times New Roman"/>
              </a:rPr>
              <a:t>Анамнезом</a:t>
            </a:r>
            <a:r>
              <a:rPr b="0" lang="sr-CS" sz="3000" spc="-1" strike="noStrike">
                <a:solidFill>
                  <a:srgbClr val="ffff00"/>
                </a:solidFill>
                <a:latin typeface="Times New Roman"/>
              </a:rPr>
              <a:t> о акутно насталој болести треба документовати степен и трајање фебрилности, симптоме од стране УТ, скорашње болести, претходно коришћене антибиотике.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3366ff"/>
                </a:solidFill>
                <a:latin typeface="Times New Roman"/>
              </a:rPr>
              <a:t>ЛА: симптоми од стране УТ: инконтиненција, неправилан млаз урина, учестало мокрење; раније доказан ВУР или епизоде неразјашњене фебрилности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00"/>
                </a:solidFill>
                <a:latin typeface="Times New Roman"/>
              </a:rPr>
              <a:t>ПА: ВУР, ожиљна нефропатија и генитоуринарним ненормалностима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Симптом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Клинички симптоми ИУТ зависе од узраста, локализације инфекције, постојања аномалија УТ и других чинилац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</a:t>
            </a:r>
            <a:r>
              <a:rPr b="1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оворођенчад: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слика септикемије: фебрилоност, повраћање, дијареја, одбијање оброка, иритабилнос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Одојчад и деца у прве три године живота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фебрилност, дигестивна симптоматологија, слабије напредовање, плач при мокрењу, као и промена карактеристика урина.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Симптом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Старија деца: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3366ff"/>
                </a:solidFill>
                <a:uFillTx/>
                <a:latin typeface="Times New Roman"/>
              </a:rPr>
              <a:t>АПН  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(фебрилност ≥ 38,5˚Ц, бол у леђима или абдомену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3366ff"/>
                </a:solidFill>
                <a:uFillTx/>
                <a:latin typeface="Times New Roman"/>
              </a:rPr>
              <a:t>Циститис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(дизурија, фебрилност &lt; 38˚Ц, полакиурија, супрапубисни бол, појава ноћне енурезе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Ризик је повећан ако су присутни малнутриција и хронична дијареј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Преглед детет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Преглед детета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са суспектном ИУТ треба да обухвати све органске системе са нагласком на палпацију абдомена, мокраћне бешике и бубрега, затим преглед спољашњих гениталија, перианалног и лумбосакралног предел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Мерење крвног притис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Биохемијско-лабораторијске анализе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Преглед ур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Рутински преглед свежег узорка  урина омогућава да се постави вероватна дијагноза ИУТ и започне лечење у очекивању резултата бактериолошког прегледа ур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Три најкориснија елемента за евалуацију могуће ИУТ су доказивање </a:t>
            </a:r>
            <a:r>
              <a:rPr b="0" lang="sr-CS" sz="3200" spc="-1" strike="noStrike" u="sng">
                <a:solidFill>
                  <a:srgbClr val="3366ff"/>
                </a:solidFill>
                <a:uFillTx/>
                <a:latin typeface="Times New Roman"/>
              </a:rPr>
              <a:t>нитрита, леукоцитне естеразе и пиуриј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Позитиван тест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са леукоцитном естеразом или нитритима, више од 5 Ле на видном пољу, налаз бактерија у узорку урина обојеног по граму са високом вероватноћом указује на ИУ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егативан тест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са нитритима и леукоцитном естеразом или негативна микропсија за пиурију и бактеријурију искључују дијагнозу ИУ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66ff"/>
                </a:solidFill>
                <a:latin typeface="Times New Roman"/>
              </a:rPr>
              <a:t>Бактериолошки преглед урин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Дефинитнивна дијагноза ИУТ потврђује се бактериолошким прегледом урина- </a:t>
            </a: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уринокултуром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, тј налазом сигнификантне бактериурије- порастом одређеног броја бактерија у јединици волумена урина. Критеријум за сигнификантност зависи од начина узимања узорка урина за прегле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Инфекције уринарног тракта (ИУТ) су друге по учесталости бактеријске инфекције у деце и захватају 1% дечје популациј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Оне су значајне у структури акутног морбидитета да укажу на постојећу абнормалност уринарног тракта (УТ) и могу да буду узрок ожиљне нефропатије која представља ризик за дугорочне секвел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Times New Roman"/>
              </a:rPr>
              <a:t>Критеријуми за дијагнозу ИУТ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765000" y="1366920"/>
          <a:ext cx="7707600" cy="50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5000" y="1366920"/>
                    <a:ext cx="770760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Локализација инфекц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Утврђивање локализације ИУТ, тј. разликовање АПН од циститиса у пракси се врши на основу критеријума наведених у табе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3"/>
          <p:cNvGraphicFramePr/>
          <p:nvPr/>
        </p:nvGraphicFramePr>
        <p:xfrm>
          <a:off x="163440" y="453960"/>
          <a:ext cx="8859960" cy="654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453960"/>
                    <a:ext cx="8859960" cy="65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Терап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Лечење треба да се започне одмах по узимању узорка урина за бактериолошки преглед.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Циљ лечења акутне ИУТ је ублажавање и нестанак тегоба, ерадикација инфекције и редукција ризика за трајно оштећење бубрег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Хоспитализација је индикован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код новорођенчад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код одојчади у 2. и 3. месецу и све фебрилне деце узраста до 2 годин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код деце &gt; 2 године са компликованом ИУ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оворођенчад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с ИУТ треба да се лече по важећем протоколу за терапију сепс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Одојчад, деца узраста до 3 године и деца с компликованом ИУТ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треба да добијају антибиотике парентералн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Иницијална терапија АПН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Парентерално: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цефалоспорини ИИИ генерације (цефтриаксон или цефотаксим) или гентамицин (алтернатива: тобрамицин или нетилмицин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Перорално: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цефалоспорини треће генерације (цефиксим, цефтибутен), друге (цефаклор, цефпрозил) или прве (цефалексин, цефадроксил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Ампицилин, амоксицилин и котримоксазол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се </a:t>
            </a:r>
            <a:r>
              <a:rPr b="0" lang="sr-CS" sz="2800" spc="-1" strike="noStrike">
                <a:solidFill>
                  <a:srgbClr val="3366ff"/>
                </a:solidFill>
                <a:latin typeface="Times New Roman"/>
              </a:rPr>
              <a:t>не препоручују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за иницијалну терапију због високог процента резистентних сојева Е. цол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Ампицилин или амоксицилин/клавуланат могу да се комбинују са цефалоспоринима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или аминогликозидима ако постоји оправдана сумња да је узрочник </a:t>
            </a:r>
            <a:r>
              <a:rPr b="0" lang="sr-CS" sz="2800" spc="-1" strike="noStrike">
                <a:solidFill>
                  <a:srgbClr val="3366ff"/>
                </a:solidFill>
                <a:latin typeface="Times New Roman"/>
              </a:rPr>
              <a:t>Ентероцоцус 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(налаз грам- позитивних кока у седименту урина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алидиксинска и пипемидинска киселина и нитрофурантоин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не треба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да се користе у терапији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АПН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јер не постижу терапијске концентрације у крви и ткиву бубрег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Флуорохинолони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не треба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да се користе у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иницијалној терапији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, а њихова примена може да буде индикована само на основу резултата антибиогра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Терапија АПН траје 7-14 дан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10-14 дана лечење се препоручује код одојчади и деце са компликованом ИУ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Симптомска терапија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АПН обухвата повећан унос течности ( за 50% већи од уобичајеног) и парацетамол као антипиретик/аналгети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Дг ИУТ није увек лака: она често изостане или је задоцнела код одојчади или мале деце код које симптоми могу бити минимални и често неспецифични. Ова група има навећи ризик за трајно оштећење бубрег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Брза дијагноза и лечење ИУТ имају за циљ да се превенира или смањи акутни морбидитет и да се умањи ризик за настанак ожиљне нефропатије и њених дугорочних секве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Акутни цистити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Пер ос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5-7 дана за млађу и 3-5 дана за старију децу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Цефалоспорини од И до ИИИ генерације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или нитрофурантоином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као лековима </a:t>
            </a:r>
            <a:r>
              <a:rPr b="0" lang="sr-Latn-CS" sz="3200" spc="-1" strike="noStrike">
                <a:solidFill>
                  <a:srgbClr val="3366ff"/>
                </a:solidFill>
                <a:latin typeface="Times New Roman"/>
              </a:rPr>
              <a:t>првог избора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алидиксинска и пипемидинска киселина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су лекови </a:t>
            </a:r>
            <a:r>
              <a:rPr b="0" lang="sr-Latn-CS" sz="3200" spc="-1" strike="noStrike">
                <a:solidFill>
                  <a:srgbClr val="3366ff"/>
                </a:solidFill>
                <a:latin typeface="Times New Roman"/>
              </a:rPr>
              <a:t>другог избора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отримоксазол и ампицилин/амоксицилин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су </a:t>
            </a:r>
            <a:r>
              <a:rPr b="0" lang="sr-Latn-CS" sz="3200" spc="-1" strike="noStrike">
                <a:solidFill>
                  <a:srgbClr val="3366ff"/>
                </a:solidFill>
                <a:latin typeface="Times New Roman"/>
              </a:rPr>
              <a:t>мање подесни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због високог процента резистентних сојева Е. цоли.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Профилакс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По излечењу ИУТ треба дати медикаментну профилаксу најмање до завршетка испитивањ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За профилаксу су погодни </a:t>
            </a:r>
            <a:r>
              <a:rPr b="0" lang="sr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цефалоспорини И и ИИ генерације (за одојчад), нитрофурантоин, амоксицилин/клавуланат и котримоксазол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Процена ризик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Чиниоци ризика за ожиљну нефропатију јесу: млађи узраст (нарочито прва година живота), мушки пол, закаснела антимикробна терапија, рецидиви пијелонефритиса, ВУР са дилатацијом, ВУР у породици, опструкционе аномалије, хипоплазија или дисплазија бубрега, нон- Е. цоли узрочник инфекциј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После излечења прве доказане ИУТ сва деца треба да буду испитана ради откривања ненормалности У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Препоруке кроз смернице за испитививање нису уједначене и међуњима постоје значајне разлике, нарочито у погледу индикација за микционуцистоуретерографију (МЦУГ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55440" y="1023840"/>
          <a:ext cx="9041040" cy="40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40" y="1023840"/>
                    <a:ext cx="9041040" cy="40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66ff"/>
                </a:solidFill>
                <a:latin typeface="Times New Roman"/>
              </a:rPr>
              <a:t>Превенција и лечење рецидива ИУТ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spcBef>
                <a:spcPts val="499"/>
              </a:spcBef>
              <a:buClr>
                <a:srgbClr val="33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366ff"/>
                </a:solidFill>
                <a:latin typeface="Times New Roman"/>
              </a:rPr>
              <a:t>За превенцију рецидива препоручује се:</a:t>
            </a: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Повећан унос течности ради повећања диурез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Редовно мокрењ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Потпуно пражњење бешике уз мокрење у “два акта”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Превенција и лечење констипациј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Одржавање хигијене перинеума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Лечење цревне паразитоз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Лацтобациллус ацидопхилус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Медикаментна профилакса</a:t>
            </a: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33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66ff"/>
                </a:solidFill>
                <a:latin typeface="Times New Roman"/>
              </a:rPr>
              <a:t>Антибиотска профилакса се препоручуј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П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о излечењу прве ИУТ, до МЦУГ код деце узраста до 2 године и код деце узраста до 5 година са компликованом ИУТ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Код деце са ВУР-ом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Код пацијената са ожиљком на сцинтиграфији и онда када ВУР није доказа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Код деце са фебрилним рецидивима (≥ 3/12 месеци) и онда када је УТ нормала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7617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За профилаксу се користе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цефалоспорини И и ИИ генерације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амоксицилин/клавуланат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котримоксазол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нитрофурантоин, налидиксинска и пипемидинска киселин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по потеби и флуорохинолон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ада нема довољно чврдстих доказа о ефикасности препарата бруснице, они могу да се користе за профилаксу ИУТ с обзиром да су нешкодљив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1599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Везикоуретерални рефлукс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и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рефлуксна нефропат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ВУР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ВУР је термин који означава ретроградно враћање урина из мокраћне бешике у урете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Епидемиологија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До пубертета, дијагноза се постави приближно у 1 % дечака и 3-5 % девојчиц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66ff"/>
                </a:solidFill>
                <a:latin typeface="Times New Roman"/>
              </a:rPr>
              <a:t>Епидемиолог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Учесталост ВУР-а у дечијој популацији није сасвим прецизно установљен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Учесталост појаве уринарних инфекција у деце до 11 година  је 3% за девојчице, а 1% за дечаке. </a:t>
            </a: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У 30-50% ових болесника  се налази ВУ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Преваленца ВУР-а у општој популацији деце се процењује на 0,4 до 1,8%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Базирано на епидемиолошким студијама, при истраживању ИУТ у око 2,2% девојчица и 0,6% дечака нађе се ВУ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Преваленца ВУР-а у деце са ИУТ износи око 31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Саргент МА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Wхат ис тхе нормал преваленце оф ВУР?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"/>
              </a:rPr>
              <a:t>Педиатр Радиол.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2000 Сеп; 30(9):587-93.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/>
              </a:rPr>
              <a:t>хттп://www.нцби.нлм.них.гов/ситес/ентрез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приступ сајту 12.04.2008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Класифик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VUR može biti primaran i sekundar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Примарни ВУР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настаје најчешће због урођене аномалије везикоуретералног споја, која га чини функционално инсуфицијентни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ВУР има тенденцију да се са узрастом детета губи, јер за то време интравезикални део уретера повећава своју дужину</a:t>
            </a:r>
            <a:r>
              <a:rPr b="0" lang="sr-Latn-CS" sz="3200" spc="-1" strike="noStrike">
                <a:solidFill>
                  <a:srgbClr val="3366ff"/>
                </a:solidFill>
                <a:latin typeface="Times New Roman"/>
              </a:rPr>
              <a:t>.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Секундарни ВУР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се јавља често удружен са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ектопичним уретерима или дупликацијама уретера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. Такође се јавља када постоји анатомска или функционална опструкција уринарног тока дивертикулом, уретероцелом и валвулом задње уретр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Посебно треба указати на појаву ВУР-а у болесника са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неурогеном дисфункцијом мокраћне бешике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У зависности од тога у којој мери приликом МУЦГ контраст испуњава уретер и пелвикаликсни систем, као и од величине дилатације овог система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ВУР се конвенционално градира у В степена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У последње време је највише прихваћена класификација Комитета интернационалне студије ВУР-а на пет степе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66ff"/>
                </a:solidFill>
                <a:latin typeface="Times New Roman"/>
              </a:rPr>
              <a:t>ВЕЗИКОУРЕТЕРАЛНИ РЕЛУКС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Picture 3" descr="vur-nl"/>
          <p:cNvPicPr/>
          <p:nvPr/>
        </p:nvPicPr>
        <p:blipFill>
          <a:blip r:embed="rId1"/>
          <a:stretch/>
        </p:blipFill>
        <p:spPr>
          <a:xfrm>
            <a:off x="611280" y="1413000"/>
            <a:ext cx="2367000" cy="2952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vur-1"/>
          <p:cNvPicPr/>
          <p:nvPr/>
        </p:nvPicPr>
        <p:blipFill>
          <a:blip r:embed="rId2"/>
          <a:stretch/>
        </p:blipFill>
        <p:spPr>
          <a:xfrm>
            <a:off x="3348000" y="1413000"/>
            <a:ext cx="2363760" cy="2950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vur-2"/>
          <p:cNvPicPr/>
          <p:nvPr/>
        </p:nvPicPr>
        <p:blipFill>
          <a:blip r:embed="rId3"/>
          <a:stretch/>
        </p:blipFill>
        <p:spPr>
          <a:xfrm>
            <a:off x="6184800" y="1413000"/>
            <a:ext cx="2422800" cy="3024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324000" y="4941720"/>
            <a:ext cx="8280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Нормалaн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буbрег,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И степeн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ИI степe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уретeр и мокра</a:t>
            </a:r>
            <a:r>
              <a:rPr b="0" lang="en-GB" sz="2400" spc="-1" strike="noStrike">
                <a:solidFill>
                  <a:srgbClr val="ffffff"/>
                </a:solidFill>
                <a:latin typeface="Lucida Grande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на беш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Garamond"/>
              </a:rPr>
              <a:t>http://www.pedisurg.com/PtEduc/Vesicoureteral_Reflux.ht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vur-3"/>
          <p:cNvPicPr/>
          <p:nvPr/>
        </p:nvPicPr>
        <p:blipFill>
          <a:blip r:embed="rId1"/>
          <a:stretch/>
        </p:blipFill>
        <p:spPr>
          <a:xfrm>
            <a:off x="601560" y="620640"/>
            <a:ext cx="2479680" cy="3095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vur-4"/>
          <p:cNvPicPr/>
          <p:nvPr/>
        </p:nvPicPr>
        <p:blipFill>
          <a:blip r:embed="rId2"/>
          <a:stretch/>
        </p:blipFill>
        <p:spPr>
          <a:xfrm>
            <a:off x="3290760" y="620640"/>
            <a:ext cx="2479680" cy="3095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vur-5"/>
          <p:cNvPicPr/>
          <p:nvPr/>
        </p:nvPicPr>
        <p:blipFill>
          <a:blip r:embed="rId3"/>
          <a:stretch/>
        </p:blipFill>
        <p:spPr>
          <a:xfrm>
            <a:off x="6012000" y="620640"/>
            <a:ext cx="2455560" cy="30654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468360" y="443700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III степeн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                 </a:t>
            </a:r>
            <a:r>
              <a:rPr b="1" lang="sr-Latn-C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 IV степeн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Garamond"/>
              </a:rPr>
              <a:t>        V степe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Благa диlaтaцiјa        Умерeнa dilatacija уretera, </a:t>
            </a: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      Дi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lata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uretera i каrлice              зaraвљенe </a:t>
            </a:r>
            <a:r>
              <a:rPr b="0" lang="en-GB" sz="2400" spc="-1" strike="noStrike">
                <a:solidFill>
                  <a:srgbClr val="ffffff"/>
                </a:solidFill>
                <a:latin typeface="Lucida Grande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шиц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Garamond"/>
              </a:rPr>
              <a:t>http://www.pedisurg.com/PtEduc/Vesicoureteral_Reflux.ht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66ff"/>
                </a:solidFill>
                <a:latin typeface="Times New Roman"/>
              </a:rPr>
              <a:t>Клиничка слик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ВУР је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асимптоматска аномалија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, а клинички се открива у око 85% случајева преко уринарне инфекције, ређе у одмаклом стадијуму преко компликација као што су хипертензија и хронична бубрежна инсуфицијенциј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ВУР, поготову ако је И, ИИ и ИИИ степена има тенденцију да се изгуби и ово се дешава у више од 50% случајева, нарочито у млађем узрасту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Склоност ка ожиљавању је, међутим, бнајвећа у првим годинама живота, тј. код одојче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Доказано је да се  ожиљавање дешава само у првих 5-7 год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Новорођенчад и одојчад мушког пола чешће обољевају у првој години, а у свим другим узрастним групама женска деца су у већем ризику који је до седме године већи за 4 до 5 пу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ИУТ се налази код око 5 % деце узраста до 2 године са фебрилношћу непознате етиологије, а 2-3 пута чешће код женске дец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44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Болесници са благим степеном ожиљавања, поготову ако немају протеинурију (или не већу од 500 мг/24х), са  нормалним с. креатинином, обично у каснијем животу немају компликациј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Известан број болесника са вишим степеном ожиљавања, односно редукције бубрежног паренхима, има болест прогредијентног тока за коју је прихваћен назив </a:t>
            </a:r>
            <a:r>
              <a:rPr b="0" lang="sr-CS" sz="3200" spc="-1" strike="noStrike" u="sng">
                <a:solidFill>
                  <a:srgbClr val="3366ff"/>
                </a:solidFill>
                <a:uFillTx/>
                <a:latin typeface="Times New Roman"/>
              </a:rPr>
              <a:t>рефлуксна нефропатиј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Рефлуксна нефропатија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(РН) је хронична прогредијентна болест коју карактерише ожиљавање бубрега, а настаје као последица ВУР-а и удружених факто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3366ff"/>
                </a:solidFill>
                <a:latin typeface="Times New Roman"/>
              </a:rPr>
              <a:t>Ожиљавање бубрега и редукција бубрежног паренхима се дијагностикује помоћу ИВП или/и ДМСА сцинтиграфиј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Промене на ИВП-у које су карактеристичне за РН је још 1960. год. описао Ј. Ходсо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Оне се састоје од: деформација чашица, различитог степена ожиљавања паренхима (обично изнад деформисаних чашица) и смањења величине бубрег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Данас је прихваћено да се степен ожиљавања бубрега дефинише по класификацији 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J. Smell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Механизам настанка ожиљавања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, односно редукције бубрежног паренхима у присуству ВУР-а данас се тумачи на неколико начина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3366ff"/>
                </a:solidFill>
                <a:latin typeface="Times New Roman"/>
              </a:rPr>
              <a:t>постојање интрареналног рефлукса,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уринарна инфекциј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3366ff"/>
                </a:solidFill>
                <a:uFillTx/>
                <a:latin typeface="Times New Roman"/>
              </a:rPr>
              <a:t>постојање конгениталне дисплазије бубрега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 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евентуално повишен ретроградни притисак- “чекић” (ово последње важи само за болеснике са опструкцијом и неурогеном дисфункцијом мокраћне бешике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66ff"/>
                </a:solidFill>
                <a:latin typeface="Times New Roman"/>
              </a:rPr>
              <a:t>ПРИРОДАН ТОК БОЛЕСТИ  </a:t>
            </a:r>
            <a:r>
              <a:rPr b="1" lang="sr-CS" sz="3600" spc="-1" strike="noStrike">
                <a:solidFill>
                  <a:srgbClr val="3366ff"/>
                </a:solidFill>
                <a:latin typeface="Times New Roman"/>
              </a:rPr>
              <a:t>УРН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3366ff"/>
                </a:solidFill>
                <a:uFillTx/>
                <a:latin typeface="Times New Roman"/>
              </a:rPr>
              <a:t>3 фазе: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1.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Почиње  у  одојчета и малог детета. Долази до  иреверзибилног  оштећења паренхим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2.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Може бити асимптоматска. Хипертензија и протеинурија нису запажен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3.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Најчешће  се болесници јављају са израженом хипертензијом  или  бубрежном исуфицијенциј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Лечењ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ВУР И и ИИ степена, и највећи број ИИИ   степена треба лечити  конзервативн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ВУР   В  степена- хирушки.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Код ВУР-а  ИИИ  и ИВ  до сада  завршене студије не показују   значајне разлике у начину лечења. </a:t>
            </a: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У  последње време  користи се «стинг»  процедура, тј убризгавање тефлона у везикоуретерелно ушће, чиме се спречава рефликсирање ур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Превен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Благовремено лечење уро-инфекција у одојчади и мале деце, при првој инфекциј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При повишеној температури која нема видљиви узрок (пре давања антибиотика) прегледати УРИН и УРИНОКУЛТУР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66ff"/>
                </a:solidFill>
                <a:latin typeface="Times New Roman"/>
              </a:rPr>
              <a:t>После лечења доказане инфекције  урадити потребна испитивањ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Код  деце из породица  са ризиком саветује се  Ехо бубрег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После прве инфекције уротракта у року од 12 месeци рецидiви се јављају u 30 %. Значaјан број ове децe има конгениталне аномалије УТ, најчешe везикоуретeрални рефлукс (ВУР) који се налaзи iзмеђу 40-50 % у нашој средин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Дефиниц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Под ИУТ подразумева се присуство сигнификантне бактериурије у 1 мл урина или било који раст бактерија на култури добијеној супрапубичном пункцијом мокраћне бешик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ИУТ је дефинисана налазом (порастом) сигнификантног броја једне врсте бактерија у урину код пацијента са инфламационом реакцијом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Асимптоматска бактериуриа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је сигнификантан налаз бактериурие у 2 узастопна узорка код деце без симптома запалења уринарног тракта.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Асимптоматска бактериурија је  чешћа у мушке одојчади, али се у предшколском и школском узрасту однос мења и налази се до 2 % у корист девојчиц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3"/>
          <p:cNvGraphicFramePr/>
          <p:nvPr/>
        </p:nvGraphicFramePr>
        <p:xfrm>
          <a:off x="457200" y="685800"/>
          <a:ext cx="8353440" cy="59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835344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3T00:17:13Z</dcterms:created>
  <dc:creator>Katja</dc:creator>
  <dc:description/>
  <dc:language>en-US</dc:language>
  <cp:lastModifiedBy>User</cp:lastModifiedBy>
  <dcterms:modified xsi:type="dcterms:W3CDTF">2015-12-02T08:31:09Z</dcterms:modified>
  <cp:revision>34</cp:revision>
  <dc:subject/>
  <dc:title>No Slide Title</dc:title>
</cp:coreProperties>
</file>